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79BC-66AA-4136-9F2E-76DFDC7AC6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228-3024-491F-ABD0-F3CB2635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C07-149D-4550-94D7-01BDEF5E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C53-126D-4631-98FC-F3492640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40B-6F27-42FC-B84F-DB463C6F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710-C64E-4AA1-8F0A-160992BD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C22-9AB4-40F0-B988-413BA409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1D7-C5D7-4938-8E51-DD4D4173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371-60E1-4C10-8918-4C84A878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C16-797A-4802-9EF7-42D74D81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AEC-05E5-48BC-A9F8-9BE06553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19A-EEFA-425F-82F8-8AE03DD3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C0D-AF2F-4DDE-A00E-095E7617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6492-D43F-4BBC-8A5C-AC111FB0E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nheritanc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Sex Linkag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ir role in determining sex, the sex chromosomes have genes for many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located on a sex chromosome are called sex linked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umans the term usually refers to X-linked characters: genes located only on 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s can pass X-linked alleles to their daughters, but not 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s can pass sex-linked alleles to both sons and daugh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essive all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ex linked trait is due to a recessive all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male will express the phenotype only if she is homozygous re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ale receives the recessive allele from his mother he will express the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 more males have disorders that are inherited as sex linked recessives than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chromosome has a locus for colour vision with two alle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rmal colou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d-green 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chromosome does not have a colour vision loc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ale receives th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le he will have impaired colour vision, whereas a female with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rrier Female x Normal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  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35800" y="5486400"/>
            <a:ext cx="767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Female : Carrier Female : Normal Male : Colour blind 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:            1             :           1         : 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5181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858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7467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76720" y="3352680"/>
          <a:ext cx="5181480" cy="21081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  <a:gridCol w="12952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howing genetic pedigr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4008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fem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173240" y="198108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fe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173240" y="251460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173240" y="3048120"/>
            <a:ext cx="4008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5181480" y="15238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181480" y="20574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181480" y="25909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181480" y="3048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5053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04812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8098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48006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5715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04812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0"/>
          <p:cNvSpPr/>
          <p:nvPr/>
        </p:nvSpPr>
        <p:spPr>
          <a:xfrm>
            <a:off x="3809880" y="5638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46483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2"/>
          <p:cNvSpPr/>
          <p:nvPr/>
        </p:nvSpPr>
        <p:spPr>
          <a:xfrm>
            <a:off x="53341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94360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3886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34290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5181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2362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23623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9"/>
          <p:cNvSpPr/>
          <p:nvPr/>
        </p:nvSpPr>
        <p:spPr>
          <a:xfrm>
            <a:off x="39625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41911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49528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32004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3"/>
          <p:cNvSpPr/>
          <p:nvPr/>
        </p:nvSpPr>
        <p:spPr>
          <a:xfrm>
            <a:off x="36576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4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7"/>
          <p:cNvSpPr/>
          <p:nvPr/>
        </p:nvSpPr>
        <p:spPr>
          <a:xfrm>
            <a:off x="480060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48006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86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35960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45104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22244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6"/>
          <p:cNvSpPr/>
          <p:nvPr/>
        </p:nvSpPr>
        <p:spPr>
          <a:xfrm>
            <a:off x="313092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38930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488376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580608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30628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390096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473112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3"/>
          <p:cNvSpPr/>
          <p:nvPr/>
        </p:nvSpPr>
        <p:spPr>
          <a:xfrm>
            <a:off x="534888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4"/>
          <p:cNvSpPr/>
          <p:nvPr/>
        </p:nvSpPr>
        <p:spPr>
          <a:xfrm>
            <a:off x="60346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114444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1144080" y="4724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7"/>
          <p:cNvSpPr/>
          <p:nvPr/>
        </p:nvSpPr>
        <p:spPr>
          <a:xfrm>
            <a:off x="1143720" y="5562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no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5: Sex-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6: Exten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925720" y="3075120"/>
            <a:ext cx="438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9:42:59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2:25:20Z</dcterms:modified>
  <cp:revision>39</cp:revision>
  <dc:subject/>
  <dc:title>Inheritance</dc:title>
</cp:coreProperties>
</file>